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CE200-0E0C-4EAD-B715-EE1CE44B43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A5CE1-F432-4E8E-A563-BC085F68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99B38-8730-4C60-9F5E-7A37573667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70A1B-08CB-4C2E-8DFE-C18CCBFED2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9BCBF-F4E9-49D9-B414-104FBB7E7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41410-1E50-4CF2-8EF7-D4EB5B32E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4AFF4-2409-4D9C-832B-F900BF261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E2056-84EB-49CB-B9FD-E4D5B74E3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694B9-237A-487A-AD18-FA3B0F8248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EA93-B560-4A4F-82B0-B483A98245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AD7A1-BEFF-4006-B167-F92B7BE6F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29914-B19D-4E3B-82C2-9B6A2DB3A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F9EBF-BFA1-44D2-85C3-9C3B5E8E10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protocol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re state machin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53920" y="2478240"/>
            <a:ext cx="83844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008720" y="2706840"/>
            <a:ext cx="545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61160" y="1981080"/>
            <a:ext cx="861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itial sta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21160" y="247824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657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086600" y="5029200"/>
            <a:ext cx="838080" cy="8380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0" name=""/>
          <p:cNvCxnSpPr>
            <a:stCxn id="44" idx="0"/>
            <a:endCxn id="47" idx="0"/>
          </p:cNvCxnSpPr>
          <p:nvPr/>
        </p:nvCxnSpPr>
        <p:spPr>
          <a:xfrm flipH="1" rot="16200000">
            <a:off x="2606040" y="1145520"/>
            <a:ext cx="2160" cy="266724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1" name=""/>
          <p:cNvSpPr/>
          <p:nvPr/>
        </p:nvSpPr>
        <p:spPr>
          <a:xfrm>
            <a:off x="1907280" y="1981080"/>
            <a:ext cx="170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, msg.seq=0, 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3598920" y="2630520"/>
            <a:ext cx="798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 ex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" name=""/>
          <p:cNvCxnSpPr>
            <a:stCxn id="44" idx="4"/>
            <a:endCxn id="44" idx="2"/>
          </p:cNvCxnSpPr>
          <p:nvPr/>
        </p:nvCxnSpPr>
        <p:spPr>
          <a:xfrm flipV="1" rot="16200000">
            <a:off x="853560" y="2896560"/>
            <a:ext cx="419760" cy="420120"/>
          </a:xfrm>
          <a:prstGeom prst="curvedConnector5">
            <a:avLst>
              <a:gd name="adj1" fmla="val -54506"/>
              <a:gd name="adj2" fmla="val 77272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>
            <a:off x="155160" y="3505320"/>
            <a:ext cx="11941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&lt;&gt;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5" name=""/>
          <p:cNvCxnSpPr>
            <a:stCxn id="47" idx="0"/>
            <a:endCxn id="52" idx="3"/>
          </p:cNvCxnSpPr>
          <p:nvPr/>
        </p:nvCxnSpPr>
        <p:spPr>
          <a:xfrm flipH="1" rot="16200000">
            <a:off x="3979080" y="2439000"/>
            <a:ext cx="381600" cy="459360"/>
          </a:xfrm>
          <a:prstGeom prst="curvedConnector5">
            <a:avLst>
              <a:gd name="adj1" fmla="val -59962"/>
              <a:gd name="adj2" fmla="val 74901"/>
              <a:gd name="adj3" fmla="val -5996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8" idx="4"/>
            <a:endCxn id="48" idx="2"/>
          </p:cNvCxnSpPr>
          <p:nvPr/>
        </p:nvCxnSpPr>
        <p:spPr>
          <a:xfrm flipV="1" rot="16200000">
            <a:off x="3657240" y="544752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8" idx="0"/>
            <a:endCxn id="49" idx="0"/>
          </p:cNvCxnSpPr>
          <p:nvPr/>
        </p:nvCxnSpPr>
        <p:spPr>
          <a:xfrm flipH="1" rot="16200000">
            <a:off x="5790240" y="3315240"/>
            <a:ext cx="2160" cy="3429720"/>
          </a:xfrm>
          <a:prstGeom prst="curvedConnector5">
            <a:avLst>
              <a:gd name="adj1" fmla="val -14400000"/>
              <a:gd name="adj2" fmla="val 50000"/>
              <a:gd name="adj3" fmla="val -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8" name=""/>
          <p:cNvCxnSpPr>
            <a:stCxn id="49" idx="4"/>
            <a:endCxn id="48" idx="4"/>
          </p:cNvCxnSpPr>
          <p:nvPr/>
        </p:nvCxnSpPr>
        <p:spPr>
          <a:xfrm rot="5400000">
            <a:off x="5789520" y="4153320"/>
            <a:ext cx="2520" cy="3429720"/>
          </a:xfrm>
          <a:prstGeom prst="curvedConnector5">
            <a:avLst>
              <a:gd name="adj1" fmla="val 14400000"/>
              <a:gd name="adj2" fmla="val 50000"/>
              <a:gd name="adj3" fmla="val 144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" name=""/>
          <p:cNvCxnSpPr>
            <a:stCxn id="48" idx="2"/>
            <a:endCxn id="47" idx="2"/>
          </p:cNvCxnSpPr>
          <p:nvPr/>
        </p:nvCxnSpPr>
        <p:spPr>
          <a:xfrm rot="10800000">
            <a:off x="3520440" y="2896560"/>
            <a:ext cx="137160" cy="2551680"/>
          </a:xfrm>
          <a:prstGeom prst="curvedConnector5">
            <a:avLst>
              <a:gd name="adj1" fmla="val 267368"/>
              <a:gd name="adj2" fmla="val 49992"/>
              <a:gd name="adj3" fmla="val 26736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2" idx="3"/>
            <a:endCxn id="48" idx="6"/>
          </p:cNvCxnSpPr>
          <p:nvPr/>
        </p:nvCxnSpPr>
        <p:spPr>
          <a:xfrm>
            <a:off x="4398480" y="2859120"/>
            <a:ext cx="97560" cy="2589840"/>
          </a:xfrm>
          <a:prstGeom prst="curvedConnector5">
            <a:avLst>
              <a:gd name="adj1" fmla="val 335925"/>
              <a:gd name="adj2" fmla="val 49993"/>
              <a:gd name="adj3" fmla="val 33592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47" idx="7"/>
            <a:endCxn id="49" idx="6"/>
          </p:cNvCxnSpPr>
          <p:nvPr/>
        </p:nvCxnSpPr>
        <p:spPr>
          <a:xfrm flipH="1" rot="16200000">
            <a:off x="4656600" y="2179440"/>
            <a:ext cx="2848680" cy="3688200"/>
          </a:xfrm>
          <a:prstGeom prst="curvedConnector5">
            <a:avLst>
              <a:gd name="adj1" fmla="val -12310"/>
              <a:gd name="adj2" fmla="val 53094"/>
              <a:gd name="adj3" fmla="val -1231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2" name=""/>
          <p:cNvCxnSpPr>
            <a:stCxn id="52" idx="3"/>
            <a:endCxn id="49" idx="7"/>
          </p:cNvCxnSpPr>
          <p:nvPr/>
        </p:nvCxnSpPr>
        <p:spPr>
          <a:xfrm>
            <a:off x="4398480" y="2859120"/>
            <a:ext cx="3404520" cy="22932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3" name=""/>
          <p:cNvCxnSpPr>
            <a:stCxn id="47" idx="5"/>
            <a:endCxn id="49" idx="2"/>
          </p:cNvCxnSpPr>
          <p:nvPr/>
        </p:nvCxnSpPr>
        <p:spPr>
          <a:xfrm flipH="1" rot="16200000">
            <a:off x="4533840" y="2896200"/>
            <a:ext cx="2255040" cy="28501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4" name=""/>
          <p:cNvCxnSpPr>
            <a:stCxn id="49" idx="6"/>
            <a:endCxn id="49" idx="4"/>
          </p:cNvCxnSpPr>
          <p:nvPr/>
        </p:nvCxnSpPr>
        <p:spPr>
          <a:xfrm flipH="1">
            <a:off x="7505280" y="5448240"/>
            <a:ext cx="419760" cy="419760"/>
          </a:xfrm>
          <a:prstGeom prst="curvedConnector5">
            <a:avLst>
              <a:gd name="adj1" fmla="val -54506"/>
              <a:gd name="adj2" fmla="val 77253"/>
              <a:gd name="adj3" fmla="val -5450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5" name=""/>
          <p:cNvSpPr/>
          <p:nvPr/>
        </p:nvSpPr>
        <p:spPr>
          <a:xfrm>
            <a:off x="4229280" y="19368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816000" y="1752480"/>
            <a:ext cx="15706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ack.seq&lt;&gt;seq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771960" y="2398680"/>
            <a:ext cx="2024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, seq=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What happenes to outstand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6600"/>
                </a:solidFill>
                <a:latin typeface="Times New Roman"/>
              </a:rPr>
              <a:t>Messag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810600" y="5257800"/>
            <a:ext cx="485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D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d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300440" y="5294160"/>
            <a:ext cx="46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C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726080" y="3429000"/>
            <a:ext cx="1031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CK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440440" y="4495680"/>
            <a:ext cx="964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eq=seq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+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955760" y="4419720"/>
            <a:ext cx="17290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sg.size &gt; maxUDPsize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 receive TCP connec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5168160" y="6132600"/>
            <a:ext cx="1060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t of sock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8142120" y="5751360"/>
            <a:ext cx="782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nd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100920" y="3200400"/>
            <a:ext cx="15552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imeout; move queu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 TCP, re-try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5565600" y="5181480"/>
            <a:ext cx="14335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Queue too long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ve queue to TCP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q=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669400" y="5867280"/>
            <a:ext cx="1029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ong nodeI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" name=""/>
          <p:cNvCxnSpPr>
            <a:stCxn id="44" idx="5"/>
            <a:endCxn id="49" idx="1"/>
          </p:cNvCxnSpPr>
          <p:nvPr/>
        </p:nvCxnSpPr>
        <p:spPr>
          <a:xfrm flipH="1" rot="16200000">
            <a:off x="3410640" y="1352880"/>
            <a:ext cx="1958400" cy="5639760"/>
          </a:xfrm>
          <a:prstGeom prst="curvedConnector5">
            <a:avLst>
              <a:gd name="adj1" fmla="val 49954"/>
              <a:gd name="adj2" fmla="val 49996"/>
              <a:gd name="adj3" fmla="val 4995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9" name=""/>
          <p:cNvSpPr/>
          <p:nvPr/>
        </p:nvSpPr>
        <p:spPr>
          <a:xfrm>
            <a:off x="1681560" y="3200400"/>
            <a:ext cx="1499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ceive TCP connec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8T16:22:07Z</dcterms:created>
  <dc:creator>Peter Druschel</dc:creator>
  <dc:description/>
  <dc:language>en-US</dc:language>
  <cp:lastModifiedBy>Peter Druschel</cp:lastModifiedBy>
  <dcterms:modified xsi:type="dcterms:W3CDTF">2002-09-08T16:58:34Z</dcterms:modified>
  <cp:revision>7</cp:revision>
  <dc:subject/>
  <dc:title>Wire protocol state machine</dc:title>
</cp:coreProperties>
</file>