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2E4DA-92F6-4133-B5E0-EC39619822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592E7-5309-4989-A3FF-2AFB49F1F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1ED9-F72A-4AF2-9C02-F16606E15D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6DF5F-1F28-4241-AF95-098949E83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83583-4D7D-4E42-9FBD-4CA8E16416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271D-2E82-4DA6-B490-7AFD6AB823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363B6-C07A-4A98-8A1A-BDB489ADA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E716E-16DB-4D23-8E3A-C6AB277E17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80EA-E5BB-4C28-BE16-332D7E4E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F033E-4647-4D6C-BC52-F6D976A71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AFB8-7D2E-48D6-94DA-19E7808E9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A401E-D25D-4C2F-A474-B5D8D87D5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1DA55B-F25B-409B-AA60-08F40A0857A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 protocol 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 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53920" y="247824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8720" y="2706840"/>
            <a:ext cx="54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1160" y="198108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21160" y="247824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5029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86600" y="5029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4" idx="0"/>
            <a:endCxn id="47" idx="0"/>
          </p:cNvCxnSpPr>
          <p:nvPr/>
        </p:nvCxnSpPr>
        <p:spPr>
          <a:xfrm flipH="1" rot="16200000">
            <a:off x="2606040" y="1145520"/>
            <a:ext cx="2160" cy="26672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907280" y="1981080"/>
            <a:ext cx="17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, msg.seq=0, seq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98920" y="2630520"/>
            <a:ext cx="79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 ex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4" idx="4"/>
            <a:endCxn id="44" idx="2"/>
          </p:cNvCxnSpPr>
          <p:nvPr/>
        </p:nvCxnSpPr>
        <p:spPr>
          <a:xfrm flipV="1" rot="16200000">
            <a:off x="853560" y="2896560"/>
            <a:ext cx="419760" cy="420120"/>
          </a:xfrm>
          <a:prstGeom prst="curvedConnector5">
            <a:avLst>
              <a:gd name="adj1" fmla="val -54506"/>
              <a:gd name="adj2" fmla="val 77272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55160" y="3505320"/>
            <a:ext cx="119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eq&lt;&gt;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7" idx="0"/>
            <a:endCxn id="52" idx="3"/>
          </p:cNvCxnSpPr>
          <p:nvPr/>
        </p:nvCxnSpPr>
        <p:spPr>
          <a:xfrm flipH="1" rot="16200000">
            <a:off x="3979080" y="2439000"/>
            <a:ext cx="381600" cy="459360"/>
          </a:xfrm>
          <a:prstGeom prst="curvedConnector5">
            <a:avLst>
              <a:gd name="adj1" fmla="val -59962"/>
              <a:gd name="adj2" fmla="val 74901"/>
              <a:gd name="adj3" fmla="val -5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4"/>
            <a:endCxn id="48" idx="2"/>
          </p:cNvCxnSpPr>
          <p:nvPr/>
        </p:nvCxnSpPr>
        <p:spPr>
          <a:xfrm flipV="1" rot="16200000">
            <a:off x="3657240" y="5447520"/>
            <a:ext cx="419760" cy="419760"/>
          </a:xfrm>
          <a:prstGeom prst="curvedConnector5">
            <a:avLst>
              <a:gd name="adj1" fmla="val -54506"/>
              <a:gd name="adj2" fmla="val 77253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0"/>
            <a:endCxn id="49" idx="0"/>
          </p:cNvCxnSpPr>
          <p:nvPr/>
        </p:nvCxnSpPr>
        <p:spPr>
          <a:xfrm flipH="1" rot="16200000">
            <a:off x="5790240" y="3315240"/>
            <a:ext cx="2160" cy="34297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9" idx="4"/>
            <a:endCxn id="48" idx="4"/>
          </p:cNvCxnSpPr>
          <p:nvPr/>
        </p:nvCxnSpPr>
        <p:spPr>
          <a:xfrm rot="5400000">
            <a:off x="5789520" y="4153320"/>
            <a:ext cx="2520" cy="34297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2"/>
            <a:endCxn id="47" idx="2"/>
          </p:cNvCxnSpPr>
          <p:nvPr/>
        </p:nvCxnSpPr>
        <p:spPr>
          <a:xfrm rot="10800000">
            <a:off x="3520440" y="2896560"/>
            <a:ext cx="137160" cy="2551680"/>
          </a:xfrm>
          <a:prstGeom prst="curvedConnector5">
            <a:avLst>
              <a:gd name="adj1" fmla="val 267368"/>
              <a:gd name="adj2" fmla="val 49992"/>
              <a:gd name="adj3" fmla="val 2673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48" idx="6"/>
          </p:cNvCxnSpPr>
          <p:nvPr/>
        </p:nvCxnSpPr>
        <p:spPr>
          <a:xfrm>
            <a:off x="4398480" y="2859120"/>
            <a:ext cx="97560" cy="2589840"/>
          </a:xfrm>
          <a:prstGeom prst="curvedConnector5">
            <a:avLst>
              <a:gd name="adj1" fmla="val 335925"/>
              <a:gd name="adj2" fmla="val 49993"/>
              <a:gd name="adj3" fmla="val 335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7"/>
            <a:endCxn id="49" idx="6"/>
          </p:cNvCxnSpPr>
          <p:nvPr/>
        </p:nvCxnSpPr>
        <p:spPr>
          <a:xfrm flipH="1" rot="16200000">
            <a:off x="4656600" y="2179440"/>
            <a:ext cx="2848680" cy="3688200"/>
          </a:xfrm>
          <a:prstGeom prst="curvedConnector5">
            <a:avLst>
              <a:gd name="adj1" fmla="val -12310"/>
              <a:gd name="adj2" fmla="val 53094"/>
              <a:gd name="adj3" fmla="val -123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49" idx="7"/>
          </p:cNvCxnSpPr>
          <p:nvPr/>
        </p:nvCxnSpPr>
        <p:spPr>
          <a:xfrm>
            <a:off x="4398480" y="2859120"/>
            <a:ext cx="3404520" cy="2293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7" idx="5"/>
            <a:endCxn id="49" idx="2"/>
          </p:cNvCxnSpPr>
          <p:nvPr/>
        </p:nvCxnSpPr>
        <p:spPr>
          <a:xfrm flipH="1" rot="16200000">
            <a:off x="4533840" y="2896200"/>
            <a:ext cx="2255040" cy="285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9" idx="6"/>
            <a:endCxn id="49" idx="4"/>
          </p:cNvCxnSpPr>
          <p:nvPr/>
        </p:nvCxnSpPr>
        <p:spPr>
          <a:xfrm flipH="1">
            <a:off x="7505280" y="5448240"/>
            <a:ext cx="419760" cy="419760"/>
          </a:xfrm>
          <a:prstGeom prst="curvedConnector5">
            <a:avLst>
              <a:gd name="adj1" fmla="val -54506"/>
              <a:gd name="adj2" fmla="val 77253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229280" y="1936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16000" y="1752480"/>
            <a:ext cx="157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ack.seq&lt;&gt;seq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71960" y="2398680"/>
            <a:ext cx="202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TCP connect, seq=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Times New Roman"/>
              </a:rPr>
              <a:t>What happenes to outst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Times New Roman"/>
              </a:rPr>
              <a:t>Mess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10600" y="52578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00440" y="529416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6080" y="3429000"/>
            <a:ext cx="10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.seq=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0440" y="4495680"/>
            <a:ext cx="96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eq=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5760" y="4419720"/>
            <a:ext cx="172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ize &gt; maxUDPsiz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receive TCP connec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68160" y="61326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so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42120" y="5751360"/>
            <a:ext cx="7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00920" y="3200400"/>
            <a:ext cx="1555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out; move que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CP, re-try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5600" y="5181480"/>
            <a:ext cx="143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too lo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queue to TC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9400" y="5867280"/>
            <a:ext cx="10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44" idx="5"/>
            <a:endCxn id="49" idx="1"/>
          </p:cNvCxnSpPr>
          <p:nvPr/>
        </p:nvCxnSpPr>
        <p:spPr>
          <a:xfrm flipH="1" rot="16200000">
            <a:off x="3410640" y="1352880"/>
            <a:ext cx="1958400" cy="5639760"/>
          </a:xfrm>
          <a:prstGeom prst="curvedConnector5">
            <a:avLst>
              <a:gd name="adj1" fmla="val 49954"/>
              <a:gd name="adj2" fmla="val 49996"/>
              <a:gd name="adj3" fmla="val 499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1681560" y="3200400"/>
            <a:ext cx="149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TCP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16:22:07Z</dcterms:created>
  <dc:creator>Peter Druschel</dc:creator>
  <dc:description/>
  <dc:language>en-US</dc:language>
  <cp:lastModifiedBy>Peter Druschel</cp:lastModifiedBy>
  <dcterms:modified xsi:type="dcterms:W3CDTF">2002-09-08T16:58:34Z</dcterms:modified>
  <cp:revision>7</cp:revision>
  <dc:subject/>
  <dc:title>Wire protocol state machine</dc:title>
</cp:coreProperties>
</file>